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30E-2473-4820-9737-60084245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8BE-3652-4D11-9B13-0F0067E1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636-5605-4A09-977C-AFD4B8B5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570-BD6E-489F-A1A2-666C553D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F5B-1EA1-4308-B13C-AF609754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A7E-5832-4D30-8925-8E0A0314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101-1DEA-43E9-8F11-02A06BC2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93B-51AA-4406-BF1E-6C8789DA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227-D94D-4016-932D-D929310A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9A8-D0BB-4C10-B967-12F27F5E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808-3651-45E4-8F5D-935E741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B5B-3C6D-4DA0-BC4A-11AF53B7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8923-BFC9-4302-9CC1-2E744130A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ntent Placeholder 2"/>
          <p:cNvSpPr/>
          <p:nvPr/>
        </p:nvSpPr>
        <p:spPr>
          <a:xfrm>
            <a:off x="428760" y="1600200"/>
            <a:ext cx="41432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ne side is the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ahoma"/>
              </a:rPr>
              <a:t>Docu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--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  <a:ea typeface="Tahoma"/>
              </a:rPr>
              <a:t>the maps themsel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ne side is the Review Process--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  <a:ea typeface="Tahoma"/>
              </a:rPr>
              <a:t>the collaborative examination and revis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f the maps by the teach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571680" y="27792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  <a:ea typeface="Tahoma"/>
              </a:rPr>
              <a:t>Mapping:  A Two-Sided Coin</a:t>
            </a:r>
            <a:br>
              <a:rPr sz="4400"/>
            </a:br>
            <a:r>
              <a:rPr b="0" lang="en-US" sz="1000" spc="-1" strike="noStrike">
                <a:solidFill>
                  <a:srgbClr val="000000"/>
                </a:solidFill>
                <a:latin typeface="Berlin Sans FB"/>
                <a:ea typeface="Tahoma"/>
              </a:rPr>
              <a:t>Module 1, Figure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4" descr="marc"/>
          <p:cNvPicPr/>
          <p:nvPr/>
        </p:nvPicPr>
        <p:blipFill>
          <a:blip r:embed="rId1"/>
          <a:stretch/>
        </p:blipFill>
        <p:spPr>
          <a:xfrm>
            <a:off x="4929120" y="2214720"/>
            <a:ext cx="38577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9:50:29Z</dcterms:created>
  <dc:creator>llakins</dc:creator>
  <dc:description/>
  <dc:language>en-US</dc:language>
  <cp:lastModifiedBy>llakins</cp:lastModifiedBy>
  <dcterms:modified xsi:type="dcterms:W3CDTF">2009-08-11T19:52:50Z</dcterms:modified>
  <cp:revision>1</cp:revision>
  <dc:subject/>
  <dc:title>Slide 1</dc:title>
</cp:coreProperties>
</file>